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7BE0-B027-4FD7-A64C-942D077A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C536-6AE1-4543-AF2D-B626B0B9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4CCD-6E5D-4788-8EB5-45DB5FFB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A4A3-DF1D-4E81-AB15-AC26971B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21D4-9995-485A-B648-EBF2B447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D0E-723C-42BE-91A3-99FCD4B4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3716-50B0-4DEE-878B-A10B1CC8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C5A7-D1C8-4CEC-879C-F6CE46B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DE5-C5CC-4D9B-BC2D-9C323C0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9DA-5311-441B-8679-70C7F2A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016A-83A1-43A1-B59A-79301B39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D9E2-D59A-4EAD-8909-AD3232C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9519-78AE-4B57-AC0B-EE35A125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A85A-7073-42C9-A173-78206ABB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501-C9F5-4901-A12F-A38811B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F4F-F8DE-49F4-AC63-1510493A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56A4-EA8B-4C1D-A2FA-D05CBF89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3BD8-63D6-4475-B280-5357542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274A-A5B1-4004-834E-33EAC273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6B92-B925-4419-9ACC-E27970B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3853-7CA6-4743-B846-7F50CE2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3345-071A-4BC3-97F3-749CC8E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E89A-3A41-447E-A7F8-8641095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D3BC-003E-43C5-A7B1-331EBAA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347-7BFC-4387-B47E-C17E80ECD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733B-EC75-4838-B04A-E2E9F5F4EBE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919-CC32-4001-9618-15F8093D2CF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F6CF-931D-441F-995B-AD5F21EF3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BC2-5C06-45A4-81A1-FA02802A4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1BC-3814-498D-BFAB-E70A7D6BE92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8173-F3CD-48E4-B1DD-FEC3DE258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626-CE72-4253-A4EC-C53C8D4AC20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9FF4-17C4-4820-8CAA-AA68B51CC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04A-DFE7-49EE-AAB7-40F95F805A2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Bevel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90920" y="45720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Minus 12"/>
          <p:cNvSpPr/>
          <p:nvPr/>
        </p:nvSpPr>
        <p:spPr>
          <a:xfrm>
            <a:off x="2666880" y="1219320"/>
            <a:ext cx="3657600" cy="30456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eriods for lecture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omestudy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THE PROCESS OF PREPARING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AND ISSUING DOCUMENTS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òa án Hiến pháp Liên bang Đức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(Das Bundesverfassungsgeric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4AA0-4B5C-4367-8AE9-35CB6F647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707D-308E-4157-980E-9578BC4EFDA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4" name="Picture 2" descr="Tòa án Hiến pháp Liên bang &amp;Dstrok;ức sẽ mất ít nhất hai tháng &amp;dstrok;ể quyết &amp;dstrok;ịnh liệu có ban hành lệnh &amp;dstrok;ình chỉ Cơ chế Bình ổn châu Âu (ESM)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985-C65A-48AF-915E-509A49CCE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C93-0485-47F5-AB91-17996FDF163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0" name="Picture 6" descr="http://brt.com.vn/mediastore/BRVT/2012/09/06/QH.jpg"/>
          <p:cNvPicPr/>
          <p:nvPr/>
        </p:nvPicPr>
        <p:blipFill>
          <a:blip r:embed="rId1"/>
          <a:stretch/>
        </p:blipFill>
        <p:spPr>
          <a:xfrm>
            <a:off x="5867280" y="2990880"/>
            <a:ext cx="2819520" cy="24955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1" name="Rectangle 3"/>
          <p:cNvSpPr/>
          <p:nvPr/>
        </p:nvSpPr>
        <p:spPr>
          <a:xfrm>
            <a:off x="457200" y="990720"/>
            <a:ext cx="82296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 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Down Arrow 8"/>
          <p:cNvSpPr/>
          <p:nvPr/>
        </p:nvSpPr>
        <p:spPr>
          <a:xfrm>
            <a:off x="3241800" y="1600200"/>
            <a:ext cx="27018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E328-817C-4630-AA88-C64F988840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618-3CA7-4C2C-9E5F-E71FF259AD3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5" name="Picture 2" descr="http://www.na.gov.vn/SodoQH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28E-0BCD-4CED-977F-12FB75757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879F-31AA-44E3-BE76-E8D514B8C05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5105520" cy="3809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nhân dâ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1" name="Picture 6" descr="http://media.tinmoi.vn/2012/04/11/84_7_1334109415_19_vu%2071334108234_340x250.jpg"/>
          <p:cNvPicPr/>
          <p:nvPr/>
        </p:nvPicPr>
        <p:blipFill>
          <a:blip r:embed="rId1"/>
          <a:stretch/>
        </p:blipFill>
        <p:spPr>
          <a:xfrm>
            <a:off x="5638680" y="990720"/>
            <a:ext cx="304812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2" name="Rectangle 3"/>
          <p:cNvSpPr/>
          <p:nvPr/>
        </p:nvSpPr>
        <p:spPr>
          <a:xfrm>
            <a:off x="457200" y="990720"/>
            <a:ext cx="510552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Down Arrow 8"/>
          <p:cNvSpPr/>
          <p:nvPr/>
        </p:nvSpPr>
        <p:spPr>
          <a:xfrm>
            <a:off x="2133720" y="2286000"/>
            <a:ext cx="1676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A100-33C8-4BB9-81F9-FA476CA8C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334-CB64-4D13-AC37-2D504B22A89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4114800" cy="2895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ộ trưở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ơ quan ngang B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9" name="Picture 8" descr="http://vovradio.vn/webmedia/RadioArticle/2437/7.jpg"/>
          <p:cNvPicPr/>
          <p:nvPr/>
        </p:nvPicPr>
        <p:blipFill>
          <a:blip r:embed="rId1"/>
          <a:stretch/>
        </p:blipFill>
        <p:spPr>
          <a:xfrm>
            <a:off x="4876920" y="914400"/>
            <a:ext cx="380988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0" name="Rectangle 3"/>
          <p:cNvSpPr/>
          <p:nvPr/>
        </p:nvSpPr>
        <p:spPr>
          <a:xfrm>
            <a:off x="457200" y="990720"/>
            <a:ext cx="4114800" cy="1904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bãi bỏ, đình chỉ thi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own Arrow 8"/>
          <p:cNvSpPr/>
          <p:nvPr/>
        </p:nvSpPr>
        <p:spPr>
          <a:xfrm>
            <a:off x="1546200" y="2895480"/>
            <a:ext cx="1882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197B-84C4-4323-9E2D-7AA4522D9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2F26-0681-4C5A-88F3-44C2305CA87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TƯ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4267080"/>
            <a:ext cx="8229600" cy="2057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Horizontal Scroll 7"/>
          <p:cNvSpPr/>
          <p:nvPr/>
        </p:nvSpPr>
        <p:spPr>
          <a:xfrm>
            <a:off x="304920" y="2895480"/>
            <a:ext cx="8458200" cy="1524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8C26-2B37-48AA-9F7D-4056E4CF4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BF3-4F4D-49D2-861F-C089490FC82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ể thức văn bản do pháp luật quy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ĐÚNG THỂ THỨC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 VB quy định bở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lệ của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15238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ù hợp lĩnh vực, đối tượng điều chỉnh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điều kiện thực tế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Horizontal Scroll 9"/>
          <p:cNvSpPr/>
          <p:nvPr/>
        </p:nvSpPr>
        <p:spPr>
          <a:xfrm>
            <a:off x="304920" y="41911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. BẢO ĐẢM TÍNH 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7A1-C72B-4A24-A1CB-5FEA16990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8F47-8106-4AD1-A5CE-0B00087C07F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đích, đối tượng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loại &amp;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uẩn bị dữ kiện (thu thập &amp; xử lý thông tin) cho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ánh giá tác động (tích cực, tiêu cực) của VB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Horizontal Scroll 7"/>
          <p:cNvSpPr/>
          <p:nvPr/>
        </p:nvSpPr>
        <p:spPr>
          <a:xfrm>
            <a:off x="380880" y="13716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B02F-1ACE-43E3-BE64-77A7904B7C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5C7A-9F61-4D07-BFFF-E3A9E9DAC98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các ý chính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ựa chọn thông tin để đưa vào các phần của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XÂY DỰNG ĐỀ C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6"/>
          <p:cNvSpPr/>
          <p:nvPr/>
        </p:nvSpPr>
        <p:spPr>
          <a:xfrm>
            <a:off x="304920" y="33526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VIẾT DỰ THẢO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19112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ựa vào đề cương và mẫu V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AEC-7F5A-4C10-8CB2-7050340EE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7C0-242D-4FD5-8503-B07005E52DD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518148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lãnh đạo duyệt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duyệt: Thẩm quyền, thể thức, nội dung, mục đích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người duyệt ghi: Duyệt, số bản ban hành, ngày duyệt, chữ k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. DUYỆT &amp; KÝ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46" name="Picture 6" descr="http://tieuchuanchatluong.com/media/70/images/Xin%20cong%20van%20giai%20toa%20lo%20hang.jpg"/>
          <p:cNvPicPr/>
          <p:nvPr/>
        </p:nvPicPr>
        <p:blipFill>
          <a:blip r:embed="rId1"/>
          <a:stretch/>
        </p:blipFill>
        <p:spPr>
          <a:xfrm>
            <a:off x="5715000" y="914400"/>
            <a:ext cx="2971800" cy="5334120"/>
          </a:xfrm>
          <a:prstGeom prst="rect">
            <a:avLst/>
          </a:prstGeom>
          <a:ln w="0">
            <a:noFill/>
          </a:ln>
        </p:spPr>
      </p:pic>
      <p:sp>
        <p:nvSpPr>
          <p:cNvPr id="247" name="Oval 7"/>
          <p:cNvSpPr/>
          <p:nvPr/>
        </p:nvSpPr>
        <p:spPr>
          <a:xfrm>
            <a:off x="5105520" y="5715000"/>
            <a:ext cx="457200" cy="533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ED0-1650-4D6E-906C-1281FD0E6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8AC4-2288-4A7C-A07E-39BAFC5D407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36C-64C0-4987-8856-1FE1E5888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5FE-626D-4F71-9D80-C58686543ED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F8FD-2D7B-48D9-9EA9-86F1F8112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C4A5-717B-4179-9762-BBB0BB402FC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QUY TRÌNH SOẠN THẢO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&amp; BAN HÀNH VĂN BẢN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590920" y="60948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Minus 10"/>
          <p:cNvSpPr/>
          <p:nvPr/>
        </p:nvSpPr>
        <p:spPr>
          <a:xfrm>
            <a:off x="2666880" y="1371600"/>
            <a:ext cx="3657600" cy="3049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120F-DEE8-43D0-AEB5-31FBBD60C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098-F971-47DC-87AD-E85F1A0C141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văn bản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: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à cơ sở pháp lý để hình thành bản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văn bản: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Không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522E-55A6-4A44-8E38-4E9BD0791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0B05-5C8A-49AD-AE59-0ECB169DA02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óng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ào Sổ công văn 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t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ăn bả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ưu tại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lưu trong hồ s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eo dõi việc thực hiệ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ể kịp thời điều ch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Rút kinh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7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 TRÌNH SOẠN THẢO &amp; BAN HÀNH VĂN BẢN – Q. TÂY HỒ, HÀ N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7C2F-F2E4-4252-9D40-BEA47BE8D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B2CF-7909-4E90-9019-AD670EB064F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1" name="Picture 2" descr="http://tayho.gov.vn/cgtdt/web/images/upload1/image/2007-09-05_09384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9A7-AFE6-4FF2-BB76-6D5E1D3D5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ADD-7B62-478C-9680-2B25F2619DF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đối với việ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bướ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DE6-0330-49EE-9993-A23D16E9E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3569-9C53-4A72-9D1D-2DD1A361B5B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Câ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ấn đề nào sau đây không phải là nguyên tắc xây dựng, ban hành văn bản QPP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ảm bảo tính hợp hiến, hợp phá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Tuân thủ thẩm quyề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ó hiệu lực chậm nhất 15 ngày sau ngày được thông qua, công bố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Bảo đảm tính khả th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F10-726E-416B-B628-8B7E8C258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D61A-8B9B-418C-AC3B-DBEDD61C69C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06668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rinciples text edi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rafting process &amp; issue document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OF THE LECTUR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3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E903-803D-49D4-8BB3-CD6035349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062-0393-46C2-82CD-C6F0AE2325D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uyên tắc soạn thảo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9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EE9-FBA2-4F40-8BB2-03F911E63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8716-8DF0-49A8-96C6-EF0DAC496FA4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4197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QPPL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quy phạm pháp luậ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H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TP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tư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minhkhai.vn/hinhlon/119162.jpg"/>
          <p:cNvPicPr/>
          <p:nvPr/>
        </p:nvPicPr>
        <p:blipFill>
          <a:blip r:embed="rId1"/>
          <a:stretch/>
        </p:blipFill>
        <p:spPr>
          <a:xfrm>
            <a:off x="4952880" y="1066680"/>
            <a:ext cx="373392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5B9-44D2-4AA8-9604-687286175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F0C9-6CFE-42A4-BB4A-D8F36ED11B5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8" name="Picture 6" descr="http://minhkhai.vn/hinhlon/101104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NGUYÊN TẮC SOẠN T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 Diagonal Corner Rectangle 9"/>
          <p:cNvSpPr/>
          <p:nvPr/>
        </p:nvSpPr>
        <p:spPr>
          <a:xfrm>
            <a:off x="457200" y="11430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457200" y="11430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 Diagonal Corner Rectangle 12"/>
          <p:cNvSpPr/>
          <p:nvPr/>
        </p:nvSpPr>
        <p:spPr>
          <a:xfrm>
            <a:off x="457200" y="22096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ể thứ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57200" y="2209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 Diagonal Corner Rectangle 14"/>
          <p:cNvSpPr/>
          <p:nvPr/>
        </p:nvSpPr>
        <p:spPr>
          <a:xfrm>
            <a:off x="457200" y="327672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57200" y="327672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ound Diagonal Corner Rectangle 16"/>
          <p:cNvSpPr/>
          <p:nvPr/>
        </p:nvSpPr>
        <p:spPr>
          <a:xfrm>
            <a:off x="457200" y="43434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457200" y="43434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ound Diagonal Corner Rectangle 18"/>
          <p:cNvSpPr/>
          <p:nvPr/>
        </p:nvSpPr>
        <p:spPr>
          <a:xfrm>
            <a:off x="457200" y="54100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ôn ngữ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457200" y="5410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A50-B62D-4ACB-8E84-981B67D55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B923-0FB7-4F3A-9F61-EE88C50358F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3" name="Picture 8" descr="http://daibieunhandan.vn/media/13/01/130131185740687/05-Tham-quyen-322013-380.jpg"/>
          <p:cNvPicPr/>
          <p:nvPr/>
        </p:nvPicPr>
        <p:blipFill>
          <a:blip r:embed="rId1"/>
          <a:stretch/>
        </p:blipFill>
        <p:spPr>
          <a:xfrm>
            <a:off x="5867280" y="1066680"/>
            <a:ext cx="281952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4" name="Rectangle 3"/>
          <p:cNvSpPr/>
          <p:nvPr/>
        </p:nvSpPr>
        <p:spPr>
          <a:xfrm>
            <a:off x="457200" y="106668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5715000"/>
            <a:ext cx="533520" cy="609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2350-AB43-47AE-B855-C922A3E37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81A2-7DD5-49F6-B73F-01D6E5B7693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3" name="Picture 10" descr="http://t0.gstatic.com/images?q=tbn:ANd9GcT4MQ9uGoOYoJ5fe1jBdPRf1eWWdneyY8L4S_YRCAL_k_pvuWY2"/>
          <p:cNvPicPr/>
          <p:nvPr/>
        </p:nvPicPr>
        <p:blipFill>
          <a:blip r:embed="rId1"/>
          <a:stretch/>
        </p:blipFill>
        <p:spPr>
          <a:xfrm>
            <a:off x="5924520" y="1066680"/>
            <a:ext cx="276228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33E-0F7D-4EF9-896C-A503CDAF7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F04-2DE6-41A7-B65A-442D1B86CBC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33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4038480"/>
            <a:ext cx="8153280" cy="2362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ong tương la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BẢO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HIẾN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Curved Right Arrow 7"/>
          <p:cNvSpPr/>
          <p:nvPr/>
        </p:nvSpPr>
        <p:spPr>
          <a:xfrm rot="19934400">
            <a:off x="542880" y="1260000"/>
            <a:ext cx="1341360" cy="205452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387720 h 2054520"/>
              <a:gd name="textAreaBottom" fmla="*/ 1499040 h 20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6" stAng="-5400000" swAng="-5400000"/>
                <a:lnTo>
                  <a:pt x="0" y="11682"/>
                </a:lnTo>
                <a:arcTo wR="21600" hR="8156" stAng="10800000" swAng="-3338134"/>
                <a:lnTo>
                  <a:pt x="16200" y="21341"/>
                </a:lnTo>
                <a:lnTo>
                  <a:pt x="21600" y="18075"/>
                </a:lnTo>
                <a:lnTo>
                  <a:pt x="16200" y="14291"/>
                </a:lnTo>
                <a:lnTo>
                  <a:pt x="16200" y="16053"/>
                </a:lnTo>
                <a:arcTo wR="21600" hR="8156" stAng="7461866" swAng="3051416"/>
                <a:lnTo>
                  <a:pt x="511" y="9919"/>
                </a:lnTo>
                <a:arcTo wR="21600" hR="8156" stAng="-10513282" swAng="5113282"/>
                <a:close/>
              </a:path>
              <a:path fill="darkenLess" w="21600" h="21600">
                <a:moveTo>
                  <a:pt x="21600" y="0"/>
                </a:moveTo>
                <a:arcTo wR="21600" hR="8156" stAng="-5400000" swAng="-5400000"/>
                <a:lnTo>
                  <a:pt x="0" y="8156"/>
                </a:lnTo>
                <a:arcTo wR="21600" hR="8156" stAng="10800000" swAng="-286718"/>
                <a:lnTo>
                  <a:pt x="511" y="9919"/>
                </a:lnTo>
                <a:arcTo wR="21600" hR="8156" stAng="-10513282" swAng="5113282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8"/>
          <p:cNvSpPr/>
          <p:nvPr/>
        </p:nvSpPr>
        <p:spPr>
          <a:xfrm>
            <a:off x="304920" y="7632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BÃI BỎ VĂN BẢN QPPL VI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14T09:40:35Z</dcterms:modified>
  <cp:revision>264</cp:revision>
  <dc:subject/>
  <dc:title>Chương 8</dc:title>
</cp:coreProperties>
</file>